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4938-77F5-4FF3-9845-FA02DAE1A7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4991-C582-426B-9F5D-87220C56AAA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A38D-C642-4B9C-9B45-6041F726D9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5F4F-0055-41BA-BA11-286F734A65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5C4E-CCAD-46E0-B52D-475A3822AC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F35E-7D77-47CA-91BD-57A91BF669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6926-4AB3-411F-995D-F4F5E5F347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6330-310A-4154-A6DD-5EB0AFAF2D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1F3-7ABC-4AAF-A58B-E387A098A9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DCE9-B0E9-4DA1-81E0-D6AA578FA1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2B9B-236F-4F67-A904-351134A751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8DC6-1369-4F7D-8D49-2F6094681D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3260-D003-464B-8712-790EF18C96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1BB1-4B1D-49B1-8C35-835CBC5D6C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9227-DD49-49C9-AAC1-2A8D6D6900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65AC-9281-465C-BA20-977A95E420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309B-7656-47DD-9C11-0378BA2E74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A1A9-93C4-4E52-AE01-5AF4A0624B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C8BAA-5EFF-4684-A4FA-C7D65EFDC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9C0D-9082-49E6-A390-4E10ED35EB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71C4-BCFA-4C2B-82CB-4DEB633E9B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9A16-C0A8-4648-9C6B-70039BDEB3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5D45-D742-425C-8ADD-70A09E6DBE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1363-6234-49B5-8AE3-02FD3D2363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4A9AF-E5DB-4D4A-ABC0-7E046313E0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24F8-E5EA-4EFD-A9B5-5FEBAEA4B1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3AF4-C74D-42BB-9B9E-FCE897C57E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95A7F-B138-4B4B-BC74-9159E0E26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3CFAB-7076-49AA-A161-13BF089BBE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304B-04D1-4EDC-B13D-A70AC979AE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6AFF-B538-48D7-8CE8-A866A9A677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BDDA4-36F6-4AC7-9DE4-A2892F43A1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1949-EAD3-4FD1-A048-D146EB5680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10C9-F060-4A70-803B-6793BCFDA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6D7F4-A88F-434A-9D6A-CDC55005C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AB6CF-FC32-4C29-8139-17E2D0D94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14200" y="428400"/>
            <a:ext cx="87156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713A-B98C-4D4A-A7FD-99423FA6D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4B8A-18CA-486D-8ED2-6CC29D09C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5790-2BDD-4FCF-920E-7A266CE59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74CF-934B-48E5-905C-F74748AE0A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547-8D57-48A5-9FD7-6F5AE1C2E054}" type="slidenum">
              <a:rPr b="0" lang="ru-RU" sz="12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7375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9561-6E57-46DE-B055-E9A4B9FF1BE3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80294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Verdana"/>
              </a:rPr>
              <a:t>RUSSIAN ECONOMY AND BANKING SECTOR IN THE CONTEXT OF CRISIS</a:t>
            </a:r>
            <a:endParaRPr b="1" lang="en-US" sz="3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13880" y="442872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Oleg Preks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D</a:t>
            </a:r>
            <a:r>
              <a:rPr b="1" lang="ru-RU" sz="2000" spc="-1" strike="noStrike">
                <a:solidFill>
                  <a:srgbClr val="595959"/>
                </a:solidFill>
                <a:latin typeface="Verdana"/>
              </a:rPr>
              <a:t>ecember</a:t>
            </a:r>
            <a:r>
              <a:rPr b="1" lang="en-US" sz="2000" spc="-1" strike="noStrike">
                <a:solidFill>
                  <a:srgbClr val="595959"/>
                </a:solidFill>
                <a:latin typeface="Verdana"/>
              </a:rPr>
              <a:t>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34880"/>
            <a:ext cx="9144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real source of inflation in Russia is not the growth of the credit market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5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EAFF-9558-483F-92E3-0F182D2450D1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4" descr=""/>
          <p:cNvPicPr/>
          <p:nvPr/>
        </p:nvPicPr>
        <p:blipFill>
          <a:blip r:embed="rId1"/>
          <a:stretch/>
        </p:blipFill>
        <p:spPr>
          <a:xfrm>
            <a:off x="5000760" y="1428840"/>
            <a:ext cx="4000320" cy="52862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4" descr=""/>
          <p:cNvPicPr/>
          <p:nvPr/>
        </p:nvPicPr>
        <p:blipFill>
          <a:blip r:embed="rId2"/>
          <a:stretch/>
        </p:blipFill>
        <p:spPr>
          <a:xfrm>
            <a:off x="142920" y="1428840"/>
            <a:ext cx="4714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9800" y="42048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undertakes significant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economic recovery measures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…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8374-551E-4A90-9BD3-A469D8B9E16B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4429080" cy="5357880"/>
          </a:xfrm>
          <a:prstGeom prst="rect">
            <a:avLst/>
          </a:prstGeom>
          <a:ln w="0">
            <a:noFill/>
          </a:ln>
        </p:spPr>
      </p:pic>
      <p:pic>
        <p:nvPicPr>
          <p:cNvPr id="131" name="Содержимое 4" descr=""/>
          <p:cNvPicPr/>
          <p:nvPr/>
        </p:nvPicPr>
        <p:blipFill>
          <a:blip r:embed="rId2"/>
          <a:stretch/>
        </p:blipFill>
        <p:spPr>
          <a:xfrm>
            <a:off x="4714920" y="1285920"/>
            <a:ext cx="42861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…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ut</a:t>
            </a:r>
            <a:r>
              <a:rPr b="1" lang="ru-RU" sz="2400" spc="-1" strike="noStrike">
                <a:solidFill>
                  <a:srgbClr val="376092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most multiplicative way of stimulating the economic activity is being used weak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3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C08E1-2065-44F2-B910-B8290368FDAC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46432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Диаграмма 4" descr=""/>
          <p:cNvPicPr/>
          <p:nvPr/>
        </p:nvPicPr>
        <p:blipFill>
          <a:blip r:embed="rId2"/>
          <a:stretch/>
        </p:blipFill>
        <p:spPr>
          <a:xfrm>
            <a:off x="4524480" y="1428840"/>
            <a:ext cx="4619520" cy="271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6"/>
          <p:cNvSpPr/>
          <p:nvPr/>
        </p:nvSpPr>
        <p:spPr>
          <a:xfrm>
            <a:off x="3085560" y="4214880"/>
            <a:ext cx="2143800" cy="337320"/>
          </a:xfrm>
          <a:prstGeom prst="rect">
            <a:avLst/>
          </a:prstGeom>
          <a:noFill/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200160" y="4818240"/>
            <a:ext cx="8715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recovery plan is aimed at developing infrastructur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mean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job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al multiplication eff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other branches of econom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mulation of demand for primary goo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9"/>
          <p:cNvSpPr/>
          <p:nvPr/>
        </p:nvSpPr>
        <p:spPr>
          <a:xfrm>
            <a:off x="4071960" y="3286080"/>
            <a:ext cx="85680" cy="9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13"/>
          <p:cNvSpPr/>
          <p:nvPr/>
        </p:nvSpPr>
        <p:spPr>
          <a:xfrm flipV="1">
            <a:off x="5243400" y="3714480"/>
            <a:ext cx="218628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emporary price rise on raw materials 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is not a way out of the crisis for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DF57-648D-4BD7-8950-AD9423252E46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0" y="1433520"/>
            <a:ext cx="52149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ese demand for raw materials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s caused by major recovery measures aimed at developing infrastructure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hina will hardly continue to build up raw material reserves at growing pr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143680" y="1228680"/>
          <a:ext cx="3857400" cy="2468520"/>
        </p:xfrm>
        <a:graphic>
          <a:graphicData uri="http://schemas.openxmlformats.org/drawingml/2006/table">
            <a:tbl>
              <a:tblPr/>
              <a:tblGrid>
                <a:gridCol w="2016000"/>
                <a:gridCol w="1841400"/>
              </a:tblGrid>
              <a:tr h="64260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e of China in the global consumption i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ud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umin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166680" indent="-166680" algn="r">
                        <a:lnSpc>
                          <a:spcPct val="100000"/>
                        </a:lnSpc>
                        <a:tabLst>
                          <a:tab algn="l" pos="0"/>
                          <a:tab algn="l" pos="1073160"/>
                          <a:tab algn="l" pos="2146320"/>
                          <a:tab algn="l" pos="3219480"/>
                          <a:tab algn="l" pos="4292640"/>
                          <a:tab algn="l" pos="5365800"/>
                          <a:tab algn="l" pos="6438960"/>
                          <a:tab algn="l" pos="7512120"/>
                          <a:tab algn="l" pos="8585280"/>
                          <a:tab algn="l" pos="9658440"/>
                          <a:tab algn="l" pos="10731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4" name="Object 7" descr=""/>
          <p:cNvPicPr/>
          <p:nvPr/>
        </p:nvPicPr>
        <p:blipFill>
          <a:blip r:embed="rId1"/>
          <a:stretch/>
        </p:blipFill>
        <p:spPr>
          <a:xfrm>
            <a:off x="214200" y="3786120"/>
            <a:ext cx="8731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Verdana"/>
              </a:rPr>
              <a:t>Mortgage market in Russia &amp; other countries</a:t>
            </a:r>
            <a:endParaRPr b="1" lang="en-US" sz="22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4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F338-2FA6-4EC8-AF59-3C9B64C0E5DA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Содержимое 4" descr=""/>
          <p:cNvPicPr/>
          <p:nvPr/>
        </p:nvPicPr>
        <p:blipFill>
          <a:blip r:embed="rId1"/>
          <a:stretch/>
        </p:blipFill>
        <p:spPr>
          <a:xfrm>
            <a:off x="142920" y="1214280"/>
            <a:ext cx="3286080" cy="2786400"/>
          </a:xfrm>
          <a:prstGeom prst="rect">
            <a:avLst/>
          </a:prstGeom>
          <a:ln w="0">
            <a:noFill/>
          </a:ln>
        </p:spPr>
      </p:pic>
      <p:pic>
        <p:nvPicPr>
          <p:cNvPr id="148" name="Содержимое 4" descr=""/>
          <p:cNvPicPr/>
          <p:nvPr/>
        </p:nvPicPr>
        <p:blipFill>
          <a:blip r:embed="rId2"/>
          <a:stretch/>
        </p:blipFill>
        <p:spPr>
          <a:xfrm>
            <a:off x="3571920" y="1214280"/>
            <a:ext cx="5357880" cy="5500800"/>
          </a:xfrm>
          <a:prstGeom prst="rect">
            <a:avLst/>
          </a:prstGeom>
          <a:ln w="0">
            <a:noFill/>
          </a:ln>
        </p:spPr>
      </p:pic>
      <p:pic>
        <p:nvPicPr>
          <p:cNvPr id="149" name="Диаграмма 5" descr=""/>
          <p:cNvPicPr/>
          <p:nvPr/>
        </p:nvPicPr>
        <p:blipFill>
          <a:blip r:embed="rId3"/>
          <a:stretch/>
        </p:blipFill>
        <p:spPr>
          <a:xfrm>
            <a:off x="142920" y="4071960"/>
            <a:ext cx="32860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713880"/>
            <a:ext cx="464328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re are many objects of great value to man which cannot be attained by unconnected individuals, but must be attained, if attained at all, by association. </a:t>
            </a:r>
            <a:br>
              <a:rPr sz="2400"/>
            </a:br>
            <a:br>
              <a:rPr sz="24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Daniel Webster</a:t>
            </a:r>
            <a:r>
              <a:rPr b="1" i="1" lang="ru-RU" sz="1800" spc="-1" strike="noStrike">
                <a:solidFill>
                  <a:srgbClr val="376092"/>
                </a:solidFill>
                <a:latin typeface="Verdana"/>
              </a:rPr>
              <a:t> (1782-1852), </a:t>
            </a:r>
            <a:br>
              <a:rPr sz="1800"/>
            </a:br>
            <a:r>
              <a:rPr b="1" i="1" lang="en-US" sz="1800" spc="-1" strike="noStrike">
                <a:solidFill>
                  <a:srgbClr val="376092"/>
                </a:solidFill>
                <a:latin typeface="Verdana"/>
              </a:rPr>
              <a:t>United States Secretary of State</a:t>
            </a:r>
            <a:endParaRPr b="1" lang="en-US" sz="1800" spc="-1" strike="noStrike">
              <a:solidFill>
                <a:srgbClr val="376092"/>
              </a:solidFill>
              <a:latin typeface="Verdana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072040" y="692280"/>
            <a:ext cx="3571920" cy="3951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5286240" y="5143680"/>
            <a:ext cx="32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on of Russian Ba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7 (495) 690-22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Highlights of the Russian banking system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6E1E-2F22-4391-BE9B-369A56472F9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4200" y="1285920"/>
          <a:ext cx="8715600" cy="5429160"/>
        </p:xfrm>
        <a:graphic>
          <a:graphicData uri="http://schemas.openxmlformats.org/drawingml/2006/table">
            <a:tbl>
              <a:tblPr/>
              <a:tblGrid>
                <a:gridCol w="3000600"/>
                <a:gridCol w="1000080"/>
                <a:gridCol w="1000080"/>
                <a:gridCol w="1143000"/>
                <a:gridCol w="1285920"/>
                <a:gridCol w="1285920"/>
              </a:tblGrid>
              <a:tr h="1063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cator,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. ru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.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s over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5349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2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9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0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44928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s’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42,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7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loan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84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8,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2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27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0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0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4,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,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6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209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169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loa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1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9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35,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,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verdu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4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+56,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5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0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0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4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13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374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porate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7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24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6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n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4156-6795-4433-A10C-820AB3602328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2440" y="1482840"/>
          <a:ext cx="8929800" cy="4875120"/>
        </p:xfrm>
        <a:graphic>
          <a:graphicData uri="http://schemas.openxmlformats.org/drawingml/2006/table">
            <a:tbl>
              <a:tblPr/>
              <a:tblGrid>
                <a:gridCol w="457200"/>
                <a:gridCol w="4246560"/>
                <a:gridCol w="685800"/>
                <a:gridCol w="633600"/>
                <a:gridCol w="620640"/>
                <a:gridCol w="744480"/>
                <a:gridCol w="755640"/>
                <a:gridCol w="785880"/>
              </a:tblGrid>
              <a:tr h="282600">
                <a:tc gridSpan="2" rowSpan="2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 THE CORRESPONDING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F THE PREVIOUS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1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1440">
                      <a:solidFill>
                        <a:srgbClr val="bfbfbf"/>
                      </a:solidFill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 w="1440">
                      <a:solidFill>
                        <a:srgbClr val="bfbfbf"/>
                      </a:solidFill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bfbfb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out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bfbfbf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ight turno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stments in fixed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1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ail turno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mer price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goods’ producer price inde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cember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5692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employment rat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%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economically active populatio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 period’s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 disposable money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which oil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82600">
                <a:tc>
                  <a:txBody>
                    <a:bodyPr lIns="7920" rIns="7920" tIns="79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ort of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8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4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200" y="499680"/>
            <a:ext cx="8715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eterioration of major macroeconomic indicators in Russia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Assets of Russian Banking Sector in Comparison with Other Advanced Economi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5C1E-6DFE-4BFE-880E-365CB327DE9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Диаграмма 3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143320" cy="5286240"/>
          </a:xfrm>
          <a:prstGeom prst="rect">
            <a:avLst/>
          </a:prstGeom>
          <a:ln w="0">
            <a:noFill/>
          </a:ln>
        </p:spPr>
      </p:pic>
      <p:pic>
        <p:nvPicPr>
          <p:cNvPr id="95" name="Диаграмма 4" descr=""/>
          <p:cNvPicPr/>
          <p:nvPr/>
        </p:nvPicPr>
        <p:blipFill>
          <a:blip r:embed="rId2"/>
          <a:stretch/>
        </p:blipFill>
        <p:spPr>
          <a:xfrm>
            <a:off x="5429160" y="1285920"/>
            <a:ext cx="35719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Russia feels deficit for long-term resource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97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1A05-9263-4C60-A2FC-2E91C3A94BE5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3" descr=""/>
          <p:cNvPicPr/>
          <p:nvPr/>
        </p:nvPicPr>
        <p:blipFill>
          <a:blip r:embed="rId1"/>
          <a:stretch/>
        </p:blipFill>
        <p:spPr>
          <a:xfrm>
            <a:off x="142920" y="1616040"/>
            <a:ext cx="4357800" cy="5143680"/>
          </a:xfrm>
          <a:prstGeom prst="rect">
            <a:avLst/>
          </a:prstGeom>
          <a:ln w="0">
            <a:noFill/>
          </a:ln>
        </p:spPr>
      </p:pic>
      <p:pic>
        <p:nvPicPr>
          <p:cNvPr id="99" name="Диаграмма 5" descr=""/>
          <p:cNvPicPr/>
          <p:nvPr/>
        </p:nvPicPr>
        <p:blipFill>
          <a:blip r:embed="rId2"/>
          <a:stretch/>
        </p:blipFill>
        <p:spPr>
          <a:xfrm>
            <a:off x="4643280" y="1616040"/>
            <a:ext cx="43578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old model of Russian economy</a:t>
            </a:r>
            <a:br>
              <a:rPr sz="2400"/>
            </a:b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does not work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BBDE-44EA-40B1-8F71-A45E8BA0E83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4" descr=""/>
          <p:cNvPicPr/>
          <p:nvPr/>
        </p:nvPicPr>
        <p:blipFill>
          <a:blip r:embed="rId1"/>
          <a:stretch/>
        </p:blipFill>
        <p:spPr>
          <a:xfrm>
            <a:off x="109440" y="2541600"/>
            <a:ext cx="4608720" cy="4260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/>
          <p:cNvSpPr/>
          <p:nvPr/>
        </p:nvSpPr>
        <p:spPr>
          <a:xfrm>
            <a:off x="128520" y="11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l of Russian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5232600" y="12142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ew model of R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7"/>
          <p:cNvSpPr/>
          <p:nvPr/>
        </p:nvSpPr>
        <p:spPr>
          <a:xfrm>
            <a:off x="1782720" y="2286000"/>
            <a:ext cx="12146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7375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214200" y="1857240"/>
            <a:ext cx="4500720" cy="4287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 oil prices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80-120 $/bb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хема 9" descr=""/>
          <p:cNvPicPr/>
          <p:nvPr/>
        </p:nvPicPr>
        <p:blipFill>
          <a:blip r:embed="rId2"/>
          <a:stretch/>
        </p:blipFill>
        <p:spPr>
          <a:xfrm>
            <a:off x="5065560" y="1944720"/>
            <a:ext cx="4084920" cy="420696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1" descr="noentry.gif"/>
          <p:cNvPicPr/>
          <p:nvPr/>
        </p:nvPicPr>
        <p:blipFill>
          <a:blip r:embed="rId3"/>
          <a:stretch/>
        </p:blipFill>
        <p:spPr>
          <a:xfrm>
            <a:off x="3228840" y="3309840"/>
            <a:ext cx="1262160" cy="1262160"/>
          </a:xfrm>
          <a:prstGeom prst="rect">
            <a:avLst/>
          </a:prstGeom>
          <a:ln w="0">
            <a:noFill/>
          </a:ln>
        </p:spPr>
      </p:pic>
      <p:sp>
        <p:nvSpPr>
          <p:cNvPr id="109" name="Штриховая стрелка вправо 12"/>
          <p:cNvSpPr/>
          <p:nvPr/>
        </p:nvSpPr>
        <p:spPr>
          <a:xfrm rot="5400000">
            <a:off x="3000240" y="2000160"/>
            <a:ext cx="1785960" cy="1071360"/>
          </a:xfrm>
          <a:prstGeom prst="pie">
            <a:avLst/>
          </a:prstGeom>
          <a:solidFill>
            <a:srgbClr val="0d0d0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трелка вверх 13" descr=""/>
          <p:cNvPicPr/>
          <p:nvPr/>
        </p:nvPicPr>
        <p:blipFill>
          <a:blip r:embed="rId4"/>
          <a:stretch/>
        </p:blipFill>
        <p:spPr>
          <a:xfrm>
            <a:off x="4157640" y="2584440"/>
            <a:ext cx="13352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mph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50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8715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Credibility comes back to Ruble slowl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2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3F3D-3028-4DD0-B5BF-41111D5F6CF7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214200" y="1357200"/>
            <a:ext cx="4000680" cy="5286600"/>
          </a:xfrm>
          <a:prstGeom prst="rect">
            <a:avLst/>
          </a:prstGeom>
          <a:solidFill>
            <a:srgbClr val="f2f2f2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other countries are keen on buying foreign currencies if the national currency devalu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the “mild” d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$ 46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n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ve been bought by population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re is agiotage demand on rubles, despite its strength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urthermore, the demand on foreign currencies is 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Содержимое 4" descr=""/>
          <p:cNvPicPr/>
          <p:nvPr/>
        </p:nvPicPr>
        <p:blipFill>
          <a:blip r:embed="rId1"/>
          <a:stretch/>
        </p:blipFill>
        <p:spPr>
          <a:xfrm>
            <a:off x="4357800" y="1357200"/>
            <a:ext cx="45720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840" y="428400"/>
            <a:ext cx="8572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Banks need to be recapitalized, because of the growth of delinquent loans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37F3-A53F-4B5A-BF5F-05F7CBFB2DEF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0" y="1357200"/>
            <a:ext cx="6215040" cy="528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215040" y="1681200"/>
          <a:ext cx="2928960" cy="3784680"/>
        </p:xfrm>
        <a:graphic>
          <a:graphicData uri="http://schemas.openxmlformats.org/drawingml/2006/table">
            <a:tbl>
              <a:tblPr/>
              <a:tblGrid>
                <a:gridCol w="1527120"/>
                <a:gridCol w="140184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 of the volume of delinquent loans by the end of 2009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redit portfol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t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 to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-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 Sui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-15%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ody´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fin R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6092"/>
                </a:solidFill>
                <a:latin typeface="Verdana"/>
              </a:rPr>
              <a:t>The growth of delinquent loans is accompanied by reduction of credit activity</a:t>
            </a:r>
            <a:endParaRPr b="1" lang="en-US" sz="2400" spc="-1" strike="noStrike">
              <a:solidFill>
                <a:srgbClr val="376092"/>
              </a:solidFill>
              <a:latin typeface="Verdana"/>
            </a:endParaRPr>
          </a:p>
        </p:txBody>
      </p:sp>
      <p:sp>
        <p:nvSpPr>
          <p:cNvPr id="120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5EFF-C6DF-4B15-86A6-F31AA594CE69}" type="slidenum">
              <a:rPr b="0" lang="ru-RU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4714920" cy="500076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" descr=""/>
          <p:cNvPicPr/>
          <p:nvPr/>
        </p:nvPicPr>
        <p:blipFill>
          <a:blip r:embed="rId2"/>
          <a:stretch/>
        </p:blipFill>
        <p:spPr>
          <a:xfrm>
            <a:off x="5000760" y="1428840"/>
            <a:ext cx="3929040" cy="52149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6"/>
          <p:cNvSpPr/>
          <p:nvPr/>
        </p:nvSpPr>
        <p:spPr>
          <a:xfrm>
            <a:off x="3600" y="6595920"/>
            <a:ext cx="1296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CBR, IM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7:16:52Z</dcterms:created>
  <dc:creator>Григорян</dc:creator>
  <dc:description/>
  <dc:language>en-US</dc:language>
  <cp:lastModifiedBy>Serge Grigoryan</cp:lastModifiedBy>
  <dcterms:modified xsi:type="dcterms:W3CDTF">2009-11-30T08:03:28Z</dcterms:modified>
  <cp:revision>971</cp:revision>
  <dc:subject/>
  <dc:title>О деятельности  Ассоциации российских банков  за отчетный период.  Антикризисные меры в финансово-кредитной сфере</dc:title>
</cp:coreProperties>
</file>